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445-2E5A-42EA-8934-51770CE0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0DA-C141-4F43-83FD-870B8CD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8D1-034E-421A-B5FD-438F6BBD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0FA-DBC4-47FB-83D5-66D1ACA8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E9431-CE05-43D9-A40E-C781C594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284BE-45BF-4AED-93B4-96208725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CAA55-3B25-4C7F-92EE-088E1D9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0EEF4-1073-40B4-8DE4-B6631CF0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4F300-C3E4-45A1-B643-AED8674E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7DEF9-EF6A-4BA0-A35E-A086D549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614AA-82D2-40E5-8500-8824DA7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0F3-8702-44F0-958A-A9169B6E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943E0-24D8-45A9-B7A8-5FF244E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4E7A9-FC68-4F8A-AAA3-E98EAF3C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CFB8E-93EE-46F3-BE41-6C9A6693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4068E-A996-4FC9-92F2-56794097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59965-90AB-426A-A26E-4AD72913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054-5378-4182-94A6-1E8D52D4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DB4-DB10-45CB-A77C-8F9394C6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179-2A65-4009-A3E6-B3E7ABD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CDD-1441-4099-B3D1-804506AE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DC9-5E1F-4638-B301-0676572C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344-CE67-4A58-856F-1C8B1363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47B-44B6-478E-B6E6-CC1ED37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C75A-E339-4ED2-B652-CCA380974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6AEE-94C6-4EC2-8EA5-5958DAB983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MEĐUNARODNI ZDRAVSTVENI PRAVILNI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c. dr Nataša Ranč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Zavod boja"/>
          <p:cNvPicPr/>
          <p:nvPr/>
        </p:nvPicPr>
        <p:blipFill>
          <a:blip r:embed="rId1"/>
          <a:stretch/>
        </p:blipFill>
        <p:spPr>
          <a:xfrm>
            <a:off x="4500720" y="152280"/>
            <a:ext cx="39589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Zako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 zaštiti stanovništva od zaraznih bolesti koje ugrožavaju celu zeml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donet je 1974. godine. Odnosio se na celu teritoriju SFRJ (24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oj republici i pokrajini ostavljeno je pravo da donese svoje zakonske propise kojima može da proširi listu zaraznih bolesti koje se obavezno prijavlju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imao je više dopuna i promena i to 1984, 1990, 1992 i 1996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uelni 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donet je 2016. godine (Službeni glasnik RS, 25.2.2016. Br. 15/2016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Ovim zakonom uređuju se zaštita stanovništva od zaraznih boles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ređuju se zarazne bolesti koje se obavezno prijavlju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finišu se mere zaštite od zaraznih bole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finiše se sprovođenje epidemiološkog nadz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emija zarazne bolesti je obolevanje od zarazne bolesti neuobičajeno po broju slučajeva, vremenu, mestu i zahvaćenoj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ulacij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i neuobičajeno povećanje broja obolelih sa komplikacijama ili smrtnim ishodom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a dva ili više međusobno povezanih slučajeva zarazne bolesti koja se nikada ili više godina nije pojavljivala na jednom područj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a većeg broja oboljenja čiji je uzročnik nepoznat, a prati ih febrilno stanj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dem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emija zarazne bolesti je obolevanje od zarazne bolesti koja prelazi državne granice i širi se na veći deo sveta ili svet u celini, ugrožavajući ljude u svim zahvaćenim područjim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zne bolesti po kategorijama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mogu sprečiti imunizacij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terija (Diphtheri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2) Infekcije uzrokovane hemofiluso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grupe B (Haemophilus influenzae B cut causa morborum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luenca/Grip uključujući influencu A(H1N1) (Influenzae/Influenzae A (H1N1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Morbili/Male boginje (Morbilli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Parotitis/Zauške (Parotit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) Pertusis/Veliki kašalj (Pertuss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Poliomijelitis/Dečja paraliza (Poliomyelitis anterior acut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Rubela/Crvenka (Rubell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Variola vera/Velike boginje (Variola ver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Tetanus (Tetanu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no prenosiv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Infekcije hlamidijom (Infectio chlamydia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Gonokokne infekcije (Infectio gonococcic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ekcija uzrokovana virusom humane imunodeficijencije (HIV-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Sifilis (Syphill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fi-FI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rusni hepatitisi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1) Hepatitis A (Hepatitis 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2) Hepatitis B (Hepatitis B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3) Hepatitis C (Hepatitis C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hranom i vodom i bolesti uzrokovane okruženjem (životnom sredinom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Antraks (Anthrax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Botulizam (Botulismu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Kampilobakterioza (Campylobac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Kriptosporidioza (Cryptosporid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Lambliaza (Đardioza) (Labliasis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kcija uzrokovana enterohemoragijskom E. Koli (Infectio intestinalis per E. Coli enterohaemorrhagica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Leptospiroza (Leptospir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Listerioza (Lis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Salmoneloza (Salmon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Šigeloza (Shig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1) Toksoplazmoza (Toxoplasm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2) Trihineloza (Trichine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) Jersinioza (Yersinosis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tale bole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esti koje se prenose nekonvencionalnim uzročnic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Zarazne spongioformne encefalopatije, varijanta Krojcfeldt-Jakobsove bolest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svetu je došlo do pojave novih ali i do ponovnog javljanja starih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veliki rizici od bioloških i radioaktivnih agen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četkom 21. veka pojavila se realna 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reb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evizijom Međunarodnog zdravstvenog pravilni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azduho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egioneloza (Legion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eningokokna bolest (invazivna bolest) (Morbus Meningococcic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neumokokne infekcije (invazivna bolest) (Infectio Pneumococcal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berkuloza (Tubercu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ežak akutni respiratorni sindrom (SARS) (SARS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oonoz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loza (Bruc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hinokokoza (Echinococc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esnilo (Rabie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 groznica (Q-febr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laremija (Tularaem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85680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ijarna influenca kod ljudi (Avian influenzae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kcija uzrokovana virusom Zapadnog Nila (Febris West Nile)-prvi put se prijavljuje od 2016. godin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emoragijska groznica sa bubrežnim sindromom (Febris haemorrhagica cum syndroma renali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Ozbiljne uvezen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era (Choler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larija (Malari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uga (Pest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ne hemoragične groznice (Viral haemorrhagic fever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ektor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rpeljski encefalitis (Encephalitis viralis ixodib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a zdravstvena pitanj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Bolničke infekcije (infekcije povezane sa zdravstvenom zaštit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Antimikrobna rezistenci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itarni nadz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arni nadzor je inspekcijski nadzor koji sprovodi sanitarni inspektor u skladu sa zakon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0713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a obolela od zaraznih bolesti imaj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a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 se leče i pridržavaju propisanih mera i uputstava zdravstvenih ustanova i privatne prak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a koja stalno ili povremeno izlučuju uzročnike zarazne bolesti, obavezna su da se pridržavaju propisanih mera i uputsta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je odredi nadležni doktor medicine, odnosno doktor medicine specijalista epidemiolog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E ZA SPREČAVANJE I SUZBIJANJE ZARAZNIH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499840"/>
            <a:ext cx="8229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SE U OBJEKTIMA KOJE PODLEŽU SANITARNOM NADZ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IH ZDRAVSTVENI RADN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rečavanje i suzbij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čavanje pojave zarazne bolesti jeste skup mera koje se stalno sprovode u cilju predupređivanja pojave infekcije ili zaraz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bijanje zarazne bolesti jeste skup mera koje se sprovode protiv već prisutne zarazne bolesti, u cilju smanjenja nje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čestalo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ispravne vode za piće (dezinfekcija vode u vodovodima, hlorisanje), obezbeđenje ispravne vode za sanitarno-higijenske i rekreativne potrebe (bazeni) i zaštita izvoriš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hrane (od proizvodnje, districubucije, usluživanja) i sanitarno-higijenskih uslova objekata u kojima se proizvodi hr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kst revizije prihvatila je Svetska zdravstvena skupština, maja 2005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vi Pravilnik je stupio na snagu 2 godine od usvajanja,  maja 2007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kupališnih, bazenskih voda, javnih česmi i iz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higijene na javnim površinama-parkovi, u javnim objektima (pozorišta, bioskopi), javnom prev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ijensko otklanjanje otpadnih materija , leševa životinja,higijena na groblj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đenje preventivne dezinfekcije, dezinsekcije i deratizacije u naseljenim mestima, na javnim površinama, u objektima u kojima se obavlja društvena dela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 mere sprovode javno komunalna preduzeć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ANO OTKRIVANJE IZVORA I REZERVOARA ZARAZE I PUTEVA PRENOŠ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OLOŠKO ISPITIVANJE I ISTRAŽI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IJSKO ISPITIVANJE RADI UTVRĐIVANJE UZROČNIKA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AVLJANJE DIJAGNO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LJIV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OZ, IZOLACIJA I LEČE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NADZOR I KARAN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I HEMOPROFILAK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ZINFEKCIJA, DEZINSEKCIJA I DERATIZACIJA PO EPIDEMIOLOŠKIM INDIKACIJ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PREGLEDI LICA ODREĐENIH KATEGORIJA ZAPOSLENIH  RADI UTVRĐIVANJA KLICONO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O VASPITANJE I OBRAZOVANJE ODREĐENIH KATEGORIJA ZAPOSLENI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ISANJE ZDRAVSTVENIH RADNIKA I STANOVNI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PEKCIJSKI NADZO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še ga samostalno sanitarni inspekt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di zaštite od unošenja zaraznih bolesti na teritoriju Republike Srbije</a:t>
            </a: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anitarni inspektori na granici, vrše sanitarni nadz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 putnicima i njihovim stvarima i nad saobraćajnim sredstvima u međunarodnom saobraća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di zdravstveni pregled lica i biološkog materijala radi utvrđivanja zaraznih bolesti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zabrani, odnosno ograniči kretanje osobama za koje se posumnja ili se utvrdi da su se mogle zaraziti kugom, velikim boginjama, virusnim hemoragijskim groznicama, žutom groznicom, SARS-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57168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zabrani unošenje u zemlju hrane i vode licima koja dolaze iz zemalja u kojima ima kolere i iz drugih zemalja u kojima ima drugih zaraznih bolesti koje se mogu preneti hranom i vodom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naredi preduzimanje drugih mera u skladu sa ovim zakonom i obavezama utvrđenim međunarodnim sanitarnim konvencijama i drugim međunarodnim ugovor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načajne nov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mesto određenog broja karantinskih bolesti, predmet novog pravilnika su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događaj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ji mogu da predstavljaju opasnost za narodno zdravlje u međunarodnim razmer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java makar i jednog obolelog od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likih boginja, poliomijelitisa i teškog respiratornog sindroma (SARS) zahteva obaveznu prijavu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a neke od sledećih bolesti: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olera, plućna kuga, plućni antraks i žuta groznica,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zavisi od lokalnih okolnosti i donosi se na osnovu posebne liste (algoritm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cilju efikasnog sprovođenja Pravilnika, svaka zemlja članica mora da osnuje Nacionalni cent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iše imunizaciju putnika u međunarodnom saobraća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Pravilniku je predviđena </a:t>
            </a:r>
            <a:r>
              <a:rPr b="0" lang="sr-Latn-CS" sz="3200" spc="-1" strike="noStrike">
                <a:solidFill>
                  <a:srgbClr val="ffc000"/>
                </a:solidFill>
                <a:latin typeface="Times New Roman"/>
              </a:rPr>
              <a:t>obavezna vakcinacija i preventivna zaštita lekovima (hemioprofilaksa) za putnike u međunarodnom saobraća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Žuta groznic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 jedina bolest koja se u tom konteksu posebno pominje. Ostavljena je i mogućnost da se u posebnim uslovima ustanovi karant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ZAKONSKA REGULATIVA KOD 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Zavod boja"/>
          <p:cNvPicPr/>
          <p:nvPr/>
        </p:nvPicPr>
        <p:blipFill>
          <a:blip r:embed="rId1"/>
          <a:stretch/>
        </p:blipFill>
        <p:spPr>
          <a:xfrm>
            <a:off x="2556000" y="152280"/>
            <a:ext cx="54007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ša zemlja ima veoma razvijeno sanitarno zakonodavst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II svetskog rata, 1948. godine donet 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pšti zakon o sprečavanju i suzbijanju zarazni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obavezno prijavljivanje za 24 zarazne bolest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je sa izmenama i dopunama, 1964. godine pretvoren u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snovni zakon 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prečavanju i suzbijanju zaraznih 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42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Korisnik</cp:lastModifiedBy>
  <dcterms:modified xsi:type="dcterms:W3CDTF">2019-01-09T08:33:23Z</dcterms:modified>
  <cp:revision>64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