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9AF-26DE-4D06-993B-9EDEC666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C1B-C196-4CEE-A589-B4E23938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F0B-A909-4B4C-990E-F86CA922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C9C-90D9-42F5-9D13-B7FF4D58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AD3-85FD-475C-B925-657F718E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89F-97E1-46F8-B7A6-C4473A5F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D44-86FD-40F1-AC49-9CB656F6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5C0-32F2-4318-B13E-62F65FC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985-0DC4-4C18-AC4F-344A04E9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AB4-72E4-4379-B1DF-3853324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6C0-7BB8-42B6-87EB-F4F40B74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F32-0A02-45B7-9D25-FC5DEB3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166A-00C7-461E-9810-51FB3EF8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ZAKON O SANITARNOM NADZ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 obuhvata inspekcijski nad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) lica zaposlenih na određenim poslovima u objektima koja podležu sanitarnom nadzoru i obaveznim zdravstvenim pregledima na propisani nač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)  namenskih prevoznih sredstava i njihove opr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d namenskim prevoznim sredstvima podrazumevaju 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 sredstva za prevoz životnih namirnica i predmeta opšte upotre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) sredstva za prevoz putnika u javnom saobraćaj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sanitetska prevozna sredstv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prevozna sredstva registrovana za porevoz umrlih 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jekti u kojima se ob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 zdravstvena delatn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) Delatnost proizvodnje i prometa životnih namirnica i predmeta opšte upotre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Delatnost javnog snabdevanja stanovništva vodom za pić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Ugostiteljska delatn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jekti u kojima se ob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) delatnost pružanja usluga održavanja higijene, nege i ulepšavanja lica i tela i nemedicinskih estetskih intervencija kojima se narušava integritet kož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) Delatnost socijalne zašti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jekti u kojima se ob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) vaspitno – obrazovna delatnos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8) delatnost kulture, fizičke kulture, sporta i rekreaci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9) delatnost javnog saobraćaja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0) drugi objekti određeni zakon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Čl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ca koja obavljaju delatnost u objektima dužni su da održavaju higijenu u objektu i neposrednom okruženju, održavaju higijenu prostorija, pšostrojenja, uređaja, nameštaja, opreme, pribora, namenskih prevoznih sredstava, higijenu radne odeće i obuće zaposlenih lica i preduzimaju druge higijenske mere u cilju zaštite zdravlja stanovništ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Čl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ca koja obavljaju delatnost u objektima dužni su da održavaju higijenu u objektu i neposrednom okruženju, održavaju higijenu prostorija, pšostrojenja, uređaja, nameštaja, opreme, pribora, namenskih prevoznih sredstava, higijenu radne odeće i obuće zaposlenih lica i preduzimaju druge higijenske mere u cilju zaštite zdravlja stanovništ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vršenju sanitarnog nadzora inspektor 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može uzeti uzor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životnih namirnica, predmeta opšte upotrebe i vode za piće radi laboratorijskog ispitivanja njihove zdravstvene ispravnosti, briseva ruku zaposlenih, postrojenja, uređaja, nameštaja, opreme i pribora za obavljenje delatnosti radi laboratorijskog ispitivanja njihove higijenske ispravnosti, kao i uzorke sterilisanog ,aterijala i sterilisanih instrumenata radi utvrđivanja njihove steril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Troškov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aboratorijskog ispitivanja snosi pravno lice, organizacija ili preduzetnik koji obavlja delatnost u objektu 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u kojem su uzeti brisevi, odnosno uzor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oblasti zaštite stanovništva od zaraznih bolesti inspektor je ovlaćšćen da 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vrši nadzor nad sprovođenjem propisanih mer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adi sprečavanja pojave, suzbijanja, eliminacije i iskorenjivanja zaraznih bolsti, kao i da preduzima druge mere i rad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im zakonom se određuju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lovi sanitarnog nadzora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čin i postupak vršenja sanitarnog nadzora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dređuju se oblasti i objekti koji podležu nadzoru i sanitarni uslovi koje ti objekti moraju ispunjavati, ovlašćenja, prava i dužnosti sanitarnih inspektora u postupku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postupcima izgradnje, odnosno rekonstrukcije tih objekata </a:t>
            </a:r>
            <a:r>
              <a:rPr b="0" lang="en-US" sz="2400" spc="-1" strike="noStrike">
                <a:solidFill>
                  <a:srgbClr val="ffc000"/>
                </a:solidFill>
                <a:latin typeface="Comic Sans MS"/>
              </a:rPr>
              <a:t>sanitarni inspektor daje saglasnos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 idejni projekat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objekte u kojima se obavlja zdravstvena delatno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) objekte za javno snabdevanje stanovništva vodom za pić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) objekte za proizvodnju životnih namirnica putem industrijskih postrojenja i uređ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vlašćenja, 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žavni organi, pravna lica i druge organizacije dužni su da sanitarnom ispektoru pružaju stručnu pomoć, da sarađuju u vršenju sanitarnog nadzora i da stavljaju na raspolaganje sve podatke potrebne za vršenje tog nadz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 vršenju sanitarnog nadzora sanitarni inspektor ima </a:t>
            </a:r>
            <a:r>
              <a:rPr b="1" lang="en-US" sz="2400" spc="-1" strike="noStrike">
                <a:solidFill>
                  <a:srgbClr val="ffc000"/>
                </a:solidFill>
                <a:latin typeface="Comic Sans MS"/>
              </a:rPr>
              <a:t>pravo i dužnost da zabrani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orišćenje objekta ili dela objek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)  ako pre početka rada nisu obezbeđeni uslo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) ako postoje higijenski nedostaci, dok se ne otkl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) nije pribavljena sanitarna saglasnost na idejni projekat i korišćenje objek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ava i dužnosti sanitarnog inspek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) naredi otklanjanje nedostata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) zabrani korišćenje ako utvrđeni nedostaci nisu otklonjeni u ostavljenom rok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) obavesti drugi organ, kao i da podnese prijavu, odnosno da podnese zahtev za pokretanje prekršajnog postup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Sanitarni nadzor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e inspekcijski nadzor nad primenom zakona, drugih propisa i opštih akata i nad sprovođenjem propisanih mera, uključujući i kontrolu ispunjenosti propisanih sanitarno-tehničkih i higijenskih uslova, koje moraju da ispune objekti, prostorije, postrojenja, uređaji, nameštaj, oprema i pribor, namenska prevozna sredstva i lica koja podležu sanitarnom nadzoru, sa ciljem zaštite zdravlja stanovništ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je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i zdravstveni nadzor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d životnim namirnicama i predmetima opšte upotrebe u proizvodnji i prome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je i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zdravstveni nadzor na granici i drugim mestima gde se vrši carinjenje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d životnim namirnicama i predmetima opšte upotrebe koji se uvoze, kao i sanitarni nadzor nad putnicima, njihovim stvarima i saobraćajnim sredstvima u međunarodnom saobraća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lovi sanitarnog nadz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nitarni nadzor vrši ministarstvo za zdravlje preko sanitarnih inspek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Sanitarni inspektori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avljaju poslove sanitarnog nadzora </a:t>
            </a: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samosta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last zaštite stanovništva od zaraznih bole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last zdravstvene ispravnosti životnih namirnica i predmeta opše upotrebe u proizvodnji, prometu i uvoz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last javnog snabdevanja stanovništva vodom za pi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 obuhvata inspekcijski nad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jekata i njegoog neposrednog okružen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utrašnjeg prostora i prostorija u pogledu njihove građevinske celine, međusobne funkcionalne povezanosti i higijenskog stan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trojenja, uređaja, nameštaja, oprerme i pribo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lasti koje podležu sanitarnokm nadzoru obuhvata inspekcijski nadz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 sirovina, poluproizvoda i gotovih peoizvoda životnih namirnica i predmeta opšte upotrebe u proizvodnji i prometu, kao i sirovina, poluproizvoda i gotovih proizvoda životnih namirnica i predmeta opšte upotrebe koji se uvoze radi stavljanja u prome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7:06:13Z</dcterms:created>
  <dc:creator>zoran velickovic</dc:creator>
  <dc:description/>
  <dc:language>en-US</dc:language>
  <cp:lastModifiedBy>Korisnik</cp:lastModifiedBy>
  <dcterms:modified xsi:type="dcterms:W3CDTF">2018-12-10T07:24:57Z</dcterms:modified>
  <cp:revision>11</cp:revision>
  <dc:subject/>
  <dc:title>ZAKON O SANITARNOM NADZORU</dc:title>
</cp:coreProperties>
</file>