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0485-5429-4F85-8A96-7B7CC161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19AF-6E6A-4B1C-B839-D71399B2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33E3-C3F4-493B-9D2E-4F43C48C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0601-E859-424C-8E86-4364D1B2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7943A-60E7-404A-999C-F47E1BFA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F0CCA-DC7C-4709-A209-4BDE4EA5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37124-8446-4E57-BDE6-B1CB1983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C2D9C-C0B9-4F90-9F02-A4C11A29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FDC0C-AE19-4844-86F5-DAF250E7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3EE7F-9BFB-4AFE-A753-2F06F936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20E4B-9544-4CCE-AA10-5557B038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2227-59ED-4283-8024-C44DE345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F5829-7329-48E6-A787-92DAEAE2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3A34D-C6E0-4D15-B348-FBAE02F3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AEDF6-21C1-4D44-891F-160B9CBC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F8E63-897A-41BA-9FF4-D10869A5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EA5C1-1F24-41ED-A897-982D55A2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C5B-DC9B-4BAE-BCE1-0A7A338B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E9BD-6410-4665-8236-A9FC46ED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ED5-EBFC-4817-A060-59279183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D9F6-23C1-41C9-A83C-96835974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B61C-08EE-41DC-9B73-75B12BE7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7FC4-A961-4492-8750-09E9DE0D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FEB-160F-4D3A-883F-094E9F22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9AC0-FE47-412A-A581-5322A6471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407E-6C87-4E8C-A129-80C467BB00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acionalni program za prevenciju raka grlića materic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aša Ranči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Metodologija skrining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provodi se u vidu organizovanog decentralizovanog skrinin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buhvataju se sve žene starosti 25-69 god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Šalje se poziv na kućnu adresu za testira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Testiranje podrazumeva citološki pregled cervikalnog brisa (Papanikolau test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krining interval je svake tri god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ljana populacija: žene 25-69 godina živo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vakoj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žen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 dostavlja poziv i liflet sa osnovnim podacima o važnosti skrining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ziv se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 potreb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navlja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2. pa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3. 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pidemiološka situ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ma podacima Svetske zdravstvene organizacije, naša zemlja ima najveću stopu incidencije u Evrop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 svetu, ovaj karcinom je drugi po učestalosti kod že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jveći broj obolelih (oko 80%) je iz zemalja u razvo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dardizovane stope mortaliteta 2 u Siriji, 87.3 na Haiti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jvažniji prognostički faktor je stadijum bolesti u momentu dijagnoz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je od trećine žena javlja se u vreme prvog stadiju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ktori koji utiču na rasprostranjeno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čestalost infekcija humanim papiloma virusom koji se prenosi seksualnim pu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še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unosupres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ojanje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spešnost skrininga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(omogućava se otkrivanje kancera u ranoj fazi ali i prekanceroznih lezija, pa se sprečava i pojava kancer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novni skrining test je Papanikolau 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 zemljama u kojima se skrining sprovodi decenijama unazad, zabeležen je pad incidencije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mrtno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snovni ciljevi progra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njivanje incidencije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mrtnosti žena od raka grlića mater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ecifični ciljev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izanje sveti žena o značaju pregle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ezbeđenje podrške programu od strane drža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sanje uloge ustan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čanje kapaciteta zdravstvenih ustan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postavljanje kontrole kvalite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ključivanje lokalne zajedn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Upravljanje i koordinacija aktivnostima program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inistarstvo zdravlja Republike Srb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nstitut za javno zdravlje Dr Milan Jovanović Bat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kružni Instituti i Zavo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om zdravl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Organizacija skrining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granizuje dom zdravlja u sardnji sa Institutom/Zavodom za javno zdravl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Dom zdravlja formira Grupu za koordinaciju skrininga raka grlića mate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va grupa donosi plan za sprovođenje skrinin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3:49:06Z</dcterms:created>
  <dc:creator>AZURE</dc:creator>
  <dc:description/>
  <dc:language>en-US</dc:language>
  <cp:lastModifiedBy>Korisnik</cp:lastModifiedBy>
  <dcterms:modified xsi:type="dcterms:W3CDTF">2018-12-24T08:41:04Z</dcterms:modified>
  <cp:revision>10</cp:revision>
  <dc:subject/>
  <dc:title>Nacionalni program ya prevenciju raka grli’a materice</dc:title>
</cp:coreProperties>
</file>