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12E-8D69-4A01-AD87-A7916527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DBA-FEDA-4803-A54D-155AD1A7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BC2-CD5E-433D-946B-B6C57596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16B-250E-4885-84F5-664C4588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52EB4-B4DF-4AC0-983A-BE69C748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7DCA7-E6CF-4B46-9E59-05BF235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0264-5948-427C-B798-468FB9A5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78F43-0812-4382-9A79-6E528D5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7E04B-3431-4699-A4D8-D8D2DDA4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9F4D8-5999-4169-B87F-DDCF1F25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0EAC-26AD-4800-A6DF-8F97F7B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54F-9BDD-48A9-A9D9-AD3B3A4C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24325-A870-4B6D-973E-21B97E3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C2A2A-B86A-4089-B8E4-EB63B62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20B9-B37A-4B34-8DED-78377F3F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C545A-6BD5-4428-983A-E899AF4C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3BA3D-9B5D-4207-A0EC-834CD60A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DFC-13FA-46E5-9495-1A32FC9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B5F-8093-4F36-A35B-9AD5F8C5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D76-120E-4633-AFDE-DBDF2D8A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A9D-2BDE-4D4A-B7C8-7BF6E928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FE3-4871-4765-8A75-F2C782C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6A3-9483-4622-B0CA-2C5A47E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B38-83CA-4C94-94FB-3950866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851-076A-4D1A-90FB-48A72F0D6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59F-A4D6-43ED-8F1A-E9C9121BFE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ONSKE OBAVEZE-NOV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. DR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lednji slučaj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ifteri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javljen je 1980.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ečije parali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6. a 2009. godine registrovan je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jedan slučaj tetanusa novorođenčad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hemioprofilaksu tuberkuloze, malarije, menigokokne bolesti, HIV infekcije i drugih zaraznih bolesti prema epidemiološkim indikacijama primenjuju se odgovarajući lekovi u skladu sa Zakon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munizacija lica određenog uzr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izloženih određenim zaraznim bolesti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u posebnom rizi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zaposlenih u zdravstvenim ustanova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munizacija putnika u međunarodnom saobraćaj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eporuče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ktivna imuniz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određenog uzr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eporučena aktivna i pasiv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unizacija lica po kliničkim indikaci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munizacija putnika u međunarodnom saobraćaju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protiv besnila u referentnoj zdravstvenoj ustano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an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imunizacija je imunizacija lica određenog uzrasta, kao i drugih lica određenih zakonom, koju lice koje treba da se imunizuje, kao ni roditelj, odnosno staratelj,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ož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odbije, osim u  slučaju postojanja privremene ili trajne kontraindikacije koju utvrđuje doktor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IZACIJA LIC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REĐENOG UZRAST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tuberkuloz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ečije paral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ifter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Aktivna imunizacija protiv tetanu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Aktivna imunizacija protiv pertrusisa (velikog kašl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6. Aktivna imunizacija protiv malih boginja (morbi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7. Aktivna imunizacija protiv zaušaka  (m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8. Aktivna imunizacija protiv rubeole (crven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MUNIZACIJA LICA ODREĐENOG UZRAS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akutnog virusnog hepatitis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. Aktivna imunizacija protiv streptokokusa pneumon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BAVEZNA AKTIVNA I PASIVNA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UNIZACIJA</a:t>
            </a:r>
            <a:br>
              <a:rPr sz="2400"/>
            </a:b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LICA EKSPONIRANIH ODREĐENIM ZARAZNIM BOLESTIMA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utnog virusnog hepatitisa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og virusnog hepatitisa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3. Besni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t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5. Trbušni tif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na aktivna i pasivna imunizacija lica u posebnom riziku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B, 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p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3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okona bolest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4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vana Streptokokom pneumonije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5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avana hemofilusom influence tip B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6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čela</a:t>
            </a:r>
            <a:r>
              <a:rPr b="0" lang="az-Cyrl-A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7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e izazavne respiratornim sincicijalnim virus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predstavlja specifičnu i efikasnu meru u sprečavanju i suzbijanju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je najefikasnija i najjeftinija mera profilakse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se vrši vakcinama (vakcinacija, vakcinoprofilak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specifičnim imunoglobulinima (seroprofilak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aktivna i pasivna imunizacija lica zaposlenih u zdravstvenim ustanovama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hepatitis 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p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boginj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ela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ušk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terija 7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kašalj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okokna boles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čela 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e zarazne bolesti prema epidemiološkim indikacija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poručena aktivna i pasivna imunizacija lica određenog uzrast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čela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ava Humanim papiloma virusom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; 4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B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p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vana Streptokokusom pneumonije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ster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a virusne infekcije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okokna bolest 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terija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1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tanus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2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kašalj 1</a:t>
            </a:r>
            <a:r>
              <a:rPr b="0" lang="az-Cyrl-A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bela  i druge zarazne bolesti prema epidemiološkim indikacij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AKTIVNA I PASIVNA IMUNIZACIJA LICA PO KLINIČKIM INDIKACI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ktiv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lica po kliničkim indikacijama su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; 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B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p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vana Streptokokusom pneumonij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5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e zarazne bolesti u skladu sa zakonom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preporučena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siv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lica po kliničkim indikacijama su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 boginj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čije boginje-varičel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3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e citomegalovirusom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e zarazne bolesti u skladu sa zakon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smena saglasnost ili odbijanje saglasnosti za preporučenu aktivnu imunizaciju dece daje se na Obrascu 3 koji je deo Pravilnik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ORUČENA IMUNIZACIJA PUTNIKA U MEĐUNARODNOM SAOBRAĆAJU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bušni tifu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; 3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ip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čija paraliza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e zarazne bolesti u skladu sa za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IMUNIZACIONOG STATUSA U SKLADU SA ZAKON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va se pri svakoj poseti doktroru a obavezno zbo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isa u sve vrste predškolsk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upisa u sve vrste škola (od osnovne do visok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štaja u ustanove za decu bez roditeljskog st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u Vojsku Republike Srb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dece i omladine na bolničko leče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ošljavanje i pre obavljanja prakse u zdravstvenim ustanov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vekcinalnog statusa protiv tetanusa i rubele kod žena generativnog peri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tev nadležnog zavoda/institu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drugim slučaje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 se može sprovodit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za druge zarazne bolesti koju doktor medicine ili specijalista odgovarajuće grane medicine nije dužan da preporuči ili koja se traži na lični zahtev pacijen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i zaštitu lekovima (u daljem tekstu: hemioprofilaksu) protiv određenih zaraznih bolesti upotrebljavaju se imunobiološki preparati (vakcine i specifični imunoglobulini) i lekovi za koje je iz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zvola za stavljanje u promet od stra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cije za lekove i medicinska sredstva Srb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može bit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 pasiv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vakcinacijom, odnosno re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zaraznih bolesti sprovodi se tokom cele god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sve dok se 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uju sva lica za koja je propisana imunizacija, osim lica kod kojih su utvrđene trajne kontraindik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aktivnu imunizaciju protiv određenih zaraznih bolesti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izvedene od mrtvih ili živih, ali oslabljenih uzročnika zaraznih bolesti ili njihovih proizvoda i vakcine dobijene na bazi genetske tehn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pasivnu imunizaciju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čni imunoglobulini humanog porek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 sprovodi se po indik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  pripremna faza imuniz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  izođenje imunizacij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I sumiranje rezult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avilnik o imunizaciji i načinu zaštite lekovima (S. Glasnik RS br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88/17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novni tekst je na snaz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/09/201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imeni, a od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/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primenjuju se članovi 20 i 2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provođenje imunizacije i hemioprofilaks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obezbeđivanje sredstava za njihovo sprovođenje </a:t>
            </a:r>
            <a:r>
              <a:rPr b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ma priorite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odnosu na sprovođenje ostalih mera u oblasti zdtavstvene zaštite i prema Zakonu o zaštiti stanovništva od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nredna 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u slučaju pojave zarazne bolesti od većeg epidemiološkog značaja ili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opasnosti od pojave epidemije  od većeg epidemiološkog značaja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osnovu akta Ministra nadležnog za poslove zdravstva  a u skladu sa preporukama SZO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i Instituta za javno zdravlje Srb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11:20Z</dcterms:created>
  <dc:creator>Home</dc:creator>
  <dc:description/>
  <dc:language>en-US</dc:language>
  <cp:lastModifiedBy>Korisnik</cp:lastModifiedBy>
  <dcterms:modified xsi:type="dcterms:W3CDTF">2018-12-10T08:04:14Z</dcterms:modified>
  <cp:revision>97</cp:revision>
  <dc:subject/>
  <dc:title>Organizacija obaveznih vakcinacija lica određenog uzrasta  (sistematska vakcinacija)</dc:title>
</cp:coreProperties>
</file>