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0BB-F09F-44AE-AB60-624679E0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2A7-880D-4BB8-881F-D6D535C1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5AA-13AC-456E-9A07-9314170A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4E8-08A5-413B-95B4-F9CA041C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8ED2-68DF-4310-8FE3-EF423081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9A33-FC1A-4433-82AA-A9FB2BE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121-1C7D-427B-AC16-0B59218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547C-4C6F-43E2-987F-042850A7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BC58-A373-4CBA-BF4D-9BF79CC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8185-231C-46A2-950C-68E4493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7AFB-8C6C-46CE-A866-EDF85158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EEE-A41A-4BF8-A5E8-AE881C4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50D-B5B1-4D55-AE90-E195ADA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1911-C13E-4202-8933-5C2B100F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6A73-DAB3-4747-A405-CA1CB95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CB6-A0F2-4BAF-B893-89B9AE84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889-7D21-416C-9C0D-CDF7B2B9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B27-1426-4789-B52E-DF9035E9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65E-2369-4D19-9092-863DD509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EB4-A529-476F-8FF2-A2884E7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16D-062A-4E82-80BF-3E99C3A1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709-BC23-4E3E-A03E-4619889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260-A153-48DF-B849-702009A2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0B9-9A15-4CC9-88F6-683681C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5D4-ABF5-43EE-B5C6-92DFC94ECD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73F0-2CCA-4211-BB5C-992468091C5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cionalni program za prevenciju raka dojk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taša Rranči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veća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ačanje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paciteta zdravstvenih ustanova (opremljenosti I kadarovi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spostavljanje sistema kontrole kvaliteta iz oblasti skrining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ključivanje organa lokalne zajedni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todologija skrining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provodi se na teritoriji cele Srbije u vidu decentralizovanog skrining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uhvataju se žene od 45-69 godin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arost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zivi se dostavljaju na kućnu adres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stiranje obuhvata: klinički pregled dojk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amografij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Klinički pregled obavlja leka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mografsko snimanje u dve standardne projekcije: mediolateralna </a:t>
            </a: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kraniokaudal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vojno očitavanje nalaza od strane dva nezavisna radiolog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zitivan nalaz mora se saopštiti najkasnije 3 nedelje po pregledu</a:t>
            </a: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egativan nalaz, objašnjava se pregledanoj ženi i saopštava da će novi poziv dobiti za 2 god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7d47d"/>
                </a:solidFill>
                <a:latin typeface="Arial"/>
              </a:rPr>
              <a:t>Pokretanje programa skrining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U jedinicama lokalne zajednice, program organizuju Instituti ili Zavodi za javno zdravl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Oni formiraju Radnu grupu za skrining raka dojke za teritoriju za koju su nadlež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Tim Instituta čine: epidemiolog, specijalista socijalne medicine, inforamičar, administrativni radnik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Predstavnici zdravstvenih ustanova koje će biti uključene u skrin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Predstavnici lokalne zajedni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Ova radna grupa u sardnji sa Kancelarijom za skrining pravi plan skrining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2f1311"/>
                </a:solidFill>
                <a:latin typeface="Arial"/>
              </a:rPr>
              <a:t>Zakazivanje pregleda, sprovođenje pregleda, čitanje mamografskih snimaka, saopštavanje rezultata, dalje upućivanje na dijagnostiku i lečenje..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pravljanje I koordinacij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inistarstvo zdravl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publička stručna komisija za rak doj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ncelarija za skrining raka dojk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 za javno zdravlje Dr Milan Jovanović-Batu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ituti/Zavodi na teritoriji Srbi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dravstvene ustano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klinike za onkologij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stituti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klinike za radiologij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ak dojke je najčešći maligni tumor kod žen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jedan od vodećih uzroka prevremene smrti kod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pe obolevanj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miranja su već nekoliko decenija u stalnom porast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od više od polovine žena rak se otkrije u poodmakloj faz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rast obolevanja od raka dojke registruje s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razvijenim zemljam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 zemljama u razvoj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jašnjava se promenama u standardu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načinu život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eventivne mogućnosti su ograničene, aktivnosti su usmerene na rano otkriva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vanje smrtnost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Zahvaljujući skriningu u većini razvijenih zemalja beleži se pad smrtnosti u poslednjoj deceniji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pidemiološka situacija u Republici Srbij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ajčešći maligni tumor kod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vake godine registruje se 4000 novoobolelih žen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ope incidenci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mortaliteta su stalnom porastu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d 1970. stopa incidencije povećala se 4 puta, sa 10 na 100 000 kod žena starosti 40. godina (2004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ao uzrok smrti kod žena starosti 45-69 godina, rak dojke je na trećem mestu iza mozdanog udara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ishemijske bolesti sr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U trenutku otkrivanja raka kod više od polovine žena on je već u III stadijumu (metastaze u regionalne limfne žlezde ili u kožu ili metastaze u udaljene organe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o kod 30% žena tumor je u momentu otkrivanaj manji od 2 c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od većine žena tumor se otkriva u operabilno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stadijumu. Tada se rade radikalne hirurške intervencije, a procenat poštednih operacija 20-45%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ljevi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snovni cilj programa je: otkrivanje raka dojke u što ranijem stadijumu kako bi se preduzelo lečenj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la smrtno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njio invalidit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boljšao kvaliteta živo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pecifični ciljevi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dizanje svesti žen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o potrebi ranih pregle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ostizanje visokog obuhvata (bar 70% od ciljane populacij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ezbeđivanje adekvatne dijagnostike </a:t>
            </a:r>
            <a:r>
              <a:rPr b="0" lang="sr-Latn-C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lečen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bezbeđivanje podrške drža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finisanje uloge ustanova u nivu prevenci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09:02Z</dcterms:created>
  <dc:creator>AZURE</dc:creator>
  <dc:description/>
  <dc:language>en-US</dc:language>
  <cp:lastModifiedBy>Korisnik</cp:lastModifiedBy>
  <dcterms:modified xsi:type="dcterms:W3CDTF">2018-12-24T08:41:41Z</dcterms:modified>
  <cp:revision>18</cp:revision>
  <dc:subject/>
  <dc:title>Nacionalni program za prevenciju raka dojke</dc:title>
</cp:coreProperties>
</file>