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3CFC-71FE-4374-B30C-A53B6EDD9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7A28-841E-49C5-B068-F75114C0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41D7-C9D2-42F3-AC5C-412C4ED0D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3B85-E15E-4C84-B894-2C8E60986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D9A3C-A9CF-47D8-AC69-B86A150E3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0EC86-DD6B-46DC-8563-B22B89D2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3ED68-97C3-48B1-B738-6C6BC46A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768FA-4ABB-438C-AB09-308F1F33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359D42-6585-4E89-AD3C-43385168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6B256-E9D3-4DBC-95A3-C589198F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C01F2-1FEA-4483-AFE5-653AC2B1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817C-9BA0-4436-B14A-169AF72F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A7E8D-C303-4B93-A1E8-89D8058B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FC0F4-F97B-4A01-B7AB-9E9FC528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872C1-D0CD-42A6-9F6E-40633212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E57232-262C-410E-8840-54E5AE50F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8475B-9AA5-4729-AA49-D9666CE50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3031-23C0-43E4-877A-2315DF04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6A3D-EF3D-44AF-A022-D38520F9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FF1B-8A3C-4650-887B-2EB11BE9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C810-64C1-4399-AC4E-EDBD8517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F6C0-F741-47BB-AFBA-5D3A7147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CE7E-C016-4BF6-9457-513CEAB2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4938-04E0-4EE1-9DA4-B8D311B4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ED28-9CC6-4387-8320-1065308E9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5E92-41FB-4508-9513-B78EE1DB3C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71320" y="1499760"/>
            <a:ext cx="735804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imes New Roman"/>
                <a:ea typeface="Tahom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Tahoma"/>
              </a:rPr>
              <a:t>Obave</a:t>
            </a:r>
            <a:r>
              <a:rPr b="1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z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Tahoma"/>
              </a:rPr>
              <a:t>ni</a:t>
            </a:r>
            <a:r>
              <a:rPr b="1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 zdravstveni pregledi određenih kategorija zaposlenih, drugih lica i kliconoš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71320" y="785520"/>
            <a:ext cx="80010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38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8f8f8"/>
                </a:solidFill>
                <a:latin typeface="Tahoma"/>
                <a:ea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8f8f8"/>
                </a:solidFill>
                <a:latin typeface="Tahoma"/>
                <a:ea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8f8f8"/>
                </a:solidFill>
                <a:latin typeface="Tahoma"/>
                <a:ea typeface="Tahoma"/>
              </a:rPr>
              <a:t>    </a:t>
            </a:r>
            <a:r>
              <a:rPr b="0" lang="sr-Latn-CS" sz="3200" spc="-1" strike="noStrike">
                <a:solidFill>
                  <a:srgbClr val="f8f8f8"/>
                </a:solidFill>
                <a:latin typeface="Tahoma"/>
                <a:ea typeface="Tahoma"/>
              </a:rPr>
              <a:t>Ako se prilikom zdravstvenih pregleda otkrije </a:t>
            </a:r>
            <a:r>
              <a:rPr b="0" lang="sr-Latn-CS" sz="3200" spc="-1" strike="noStrike">
                <a:solidFill>
                  <a:srgbClr val="ff0000"/>
                </a:solidFill>
                <a:latin typeface="Tahoma"/>
                <a:ea typeface="Tahoma"/>
              </a:rPr>
              <a:t>pozitivan nalaz</a:t>
            </a:r>
            <a:r>
              <a:rPr b="0" lang="sr-Latn-CS" sz="3200" spc="-1" strike="noStrike">
                <a:solidFill>
                  <a:srgbClr val="f8f8f8"/>
                </a:solidFill>
                <a:latin typeface="Tahoma"/>
                <a:ea typeface="Tahoma"/>
              </a:rPr>
              <a:t> – ta lica se ne smeju zapošljavati, odnosno zabranjuje im se obavljanje poslova ili obavezne prakse na tim poslovima, do dobijanja negativnog nalaz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8f8f8"/>
                </a:solidFill>
                <a:latin typeface="Tahoma"/>
                <a:ea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0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80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ahoma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80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71680" y="928440"/>
            <a:ext cx="79293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42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   </a:t>
            </a:r>
            <a:r>
              <a:rPr b="0" lang="sr-Latn-CS" sz="3600" spc="-1" strike="noStrike">
                <a:solidFill>
                  <a:srgbClr val="ffff00"/>
                </a:solidFill>
                <a:latin typeface="Tahoma"/>
                <a:ea typeface="Tahoma"/>
              </a:rPr>
              <a:t>Zdravstvenom pregledu podležu i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42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2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1.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davaoci krvi, semene tečnosti, jajnih ćelija, tkiva i delova ljudskog tela koji se presađuju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2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2.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trudnice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2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3.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lica na lečenju hemodijalizo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2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2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2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2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2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71320" y="1071360"/>
            <a:ext cx="77864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41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8f8f8"/>
                </a:solidFill>
                <a:latin typeface="Tahoma"/>
                <a:ea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1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8f8f8"/>
                </a:solidFill>
                <a:latin typeface="Tahoma"/>
                <a:ea typeface="Tahoma"/>
              </a:rPr>
              <a:t>    </a:t>
            </a:r>
            <a:r>
              <a:rPr b="0" lang="sr-Latn-CS" sz="3200" spc="-1" strike="noStrike">
                <a:solidFill>
                  <a:srgbClr val="f8f8f8"/>
                </a:solidFill>
                <a:latin typeface="Tahoma"/>
                <a:ea typeface="Tahoma"/>
              </a:rPr>
              <a:t>Zdravstveni pregledi  davaoca krvi, semene tečnosti, jajnih ćelija, tkiva i delova ljudskog tela koji se presađuju, obuhvataju pregled krvi na prisustvo HBsAg, anti – HCV antitela i anti – HIV antitel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1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1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8f8f8"/>
                </a:solidFill>
                <a:latin typeface="Tahoma"/>
                <a:ea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16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16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ahoma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16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56760" y="500040"/>
            <a:ext cx="835812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2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21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    </a:t>
            </a:r>
            <a:r>
              <a:rPr b="0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Zdravstveni pregledi  trudnica obuhvataju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2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2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1.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  <a:ea typeface="Tahoma"/>
              </a:rPr>
              <a:t> 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pregled krvi na rubeolu i toksoplazmu, u prva tri meseca trudnoće, prema epidemiološkim indikacijama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2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2.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 pregled krvi na anti – HIV antitela 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2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    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anti – HCV antitela, prema epidemiološkim indikacijama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2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3.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  <a:ea typeface="Tahoma"/>
              </a:rPr>
              <a:t> 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pregled krvi na HBsAg, u poslednjem mesecu trudnoć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2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2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21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21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21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99680" y="785880"/>
            <a:ext cx="77151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432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8f8f8"/>
                </a:solidFill>
                <a:latin typeface="Tahoma"/>
                <a:ea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32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8f8f8"/>
                </a:solidFill>
                <a:latin typeface="Tahoma"/>
                <a:ea typeface="Tahoma"/>
              </a:rPr>
              <a:t>    </a:t>
            </a:r>
            <a:r>
              <a:rPr b="0" lang="sr-Latn-CS" sz="3200" spc="-1" strike="noStrike">
                <a:solidFill>
                  <a:srgbClr val="f8f8f8"/>
                </a:solidFill>
                <a:latin typeface="Tahoma"/>
                <a:ea typeface="Tahoma"/>
              </a:rPr>
              <a:t>Zdravstveni pregledi lica na lečenju hemodijalizom obuhvataju pregled krvi na prisustvo HBsAg, anti – HCV antitela i anti – HIV antitela, pre započinjanja hemodijalize i jedanput godišnje u toku primene hemodijaliz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32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8f8f8"/>
                </a:solidFill>
                <a:latin typeface="Tahoma"/>
                <a:ea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32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32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ahoma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32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71320" y="856800"/>
            <a:ext cx="7358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Obaveznom pregledu podležu lica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0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zaposlena na poslovim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</a:t>
            </a:r>
            <a:r>
              <a:rPr b="0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1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. javnog snabdevanja stanovništva vodom za piće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</a:t>
            </a:r>
            <a:r>
              <a:rPr b="0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2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.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  <a:ea typeface="Tahoma"/>
              </a:rPr>
              <a:t> 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proizvodnje, prometa i usluživanja životnih namirnica, izuzev lica zaposlenih u proizvodnji žestokih pića, vina, sirćeta i sirćetne kiseline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71680" y="856800"/>
            <a:ext cx="79293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</a:t>
            </a:r>
            <a:r>
              <a:rPr b="0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3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. ishrane i nege u predškolskim ustanovama, ustanovama za kolektivni smeštaj dece i omladine i ustanovama socijalne zaštite za smeštaj određenih kategorija lica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</a:t>
            </a:r>
            <a:r>
              <a:rPr b="0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4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. zdravstvenih pregleda, lečenja i nege bolesnika i poslovima održavanja higijene u zdravstvenim ustanovama i drugim oblicima zdravstvene službe, na odeljenjima sa povećanim rizikom od zaraze i 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7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7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13880" y="1071360"/>
            <a:ext cx="735804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41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1. 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na odeljenjima za akušerstvo sa boksovima za novorođenu decu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1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2. 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na odeljenjima za prevremeno rođenu decu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1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3. 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na dečijim odeljenjima zdravsvenih ustanova u kojima se obavlja stacionarna zdravstvena zaštita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1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4. 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u operacionim blokovima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1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5. 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na odeljenjima intenzivne nege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1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16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16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16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71680" y="1714320"/>
            <a:ext cx="7858080" cy="35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38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6. 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na odeljenjima za lečenje opekotina i transplatacije tkiva i organa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  <a:ea typeface="Tahoma"/>
              </a:rPr>
              <a:t>7. 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na odeljenjima za hemodijalizu i peritonealnu dijalizu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0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80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71320" y="1071360"/>
            <a:ext cx="77151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5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. pružanje higijenske nege i ulepšavanja lica i tela i poslovima pružanja nemedicinskih estetskih intervencija kojima se narušava integritet kože (berberske, frizerske, maserske, pedikirske, manikirske, kozmetičke usluge, kao i usluge depilacije, tetovaže, pirsinga i sl.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2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6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. proizvodnja lekova i kozmetičkih sredsta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2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2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62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62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71320" y="1071360"/>
            <a:ext cx="73580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   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Lica koja u toku školovanja obavljaju obaveznu praksu na poslovima koji su napred nabrojani podležu obaveznom pregledu propisanim za zaposlene na poslovima na kojima će obavljati praksu, pod uslovima, u rokovima i na način propisan za lica zaposlena na tim poslovi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71320" y="1071360"/>
            <a:ext cx="73580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432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     </a:t>
            </a:r>
            <a:r>
              <a:rPr b="0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Zdravstveni pregledi obuhvataju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32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32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1.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 lekarski pregled na zarazne bolesti koje se mogu preneti životnim namirnicama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32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2.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  <a:ea typeface="Tahoma"/>
              </a:rPr>
              <a:t> 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lekarski pregled na gnojna, gljivična i parazitarna oboljenja kože i vidljive sluzokože, a prema epidemiološkim indikacijama i pregled na tuberkulozu pluća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32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32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32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32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71320" y="1071360"/>
            <a:ext cx="73580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42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    </a:t>
            </a:r>
            <a:r>
              <a:rPr b="0" lang="sr-Latn-CS" sz="3200" spc="-1" strike="noStrike">
                <a:solidFill>
                  <a:srgbClr val="ffff00"/>
                </a:solidFill>
                <a:latin typeface="Tahoma"/>
                <a:ea typeface="Tahoma"/>
              </a:rPr>
              <a:t>Zdravstveni pregledi obuhvataju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2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2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3.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  <a:ea typeface="Tahoma"/>
              </a:rPr>
              <a:t> 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bakteriološki pregled brisa ždrel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  <a:ea typeface="Tahoma"/>
              </a:rPr>
              <a:t>a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i nosa na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  <a:ea typeface="Tahoma"/>
              </a:rPr>
              <a:t> 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Staphylococcus aureus, koagulaza pozitivan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2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4.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  <a:ea typeface="Tahoma"/>
              </a:rPr>
              <a:t> 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bakteriološki pregled stolice na salmonele i šigele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2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Tahoma"/>
                <a:ea typeface="Tahoma"/>
              </a:rPr>
              <a:t>5.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  <a:ea typeface="Tahoma"/>
              </a:rPr>
              <a:t> </a:t>
            </a: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laboratorijski pregled stolice na crevne protozo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2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8f8f8"/>
                </a:solidFill>
                <a:latin typeface="Tahoma"/>
                <a:ea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26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26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26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07:27:15Z</dcterms:created>
  <dc:creator>Intel</dc:creator>
  <dc:description/>
  <dc:language>en-US</dc:language>
  <cp:lastModifiedBy>Tasman</cp:lastModifiedBy>
  <dcterms:modified xsi:type="dcterms:W3CDTF">2009-11-24T10:46:51Z</dcterms:modified>
  <cp:revision>109</cp:revision>
  <dc:subject/>
  <dc:title>MEĐUNARODNI ZDRAVSTVENI PRAVILNI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