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819-F979-43E8-93FA-FE456D16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1FA-09CA-4C18-AEAA-2CEAAA02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AA9-06F9-4B0C-A5A6-F00501D6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A54-92CC-49B5-9F27-47E0FC62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77EA-D0E2-4BFB-B676-05FF86C4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6C55-3256-4841-AFD8-A47909D6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54D3-9283-4FEE-969F-41070874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F9D4-4F8A-452C-9661-5A9B991E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3B15-F582-4FE5-8C49-BA8FF46D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C9D7-EFF7-45E8-BEEF-ACAE780A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DCB8-B9F5-4541-8C5D-CCD89DA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5D2-4407-4195-B0C6-490D8109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25B8-A302-4AF1-929D-66FAF69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C95D-9202-4F0A-A98E-311EFA02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BD0F-20F4-4173-828B-3CF66C39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C450-E38C-494D-A53A-AD9626CC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1750-CBD9-43EC-8EFA-0D88CE8C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450-BB9C-4C55-8A79-E94D05AE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C1D-44C1-4891-A8A4-40545A5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3CB-E7F8-45E7-9120-42DBA389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7DE-E293-4216-9BF9-9979A4A0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BA3-6359-46DB-B782-0BA4A3F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DEC-B2C9-462A-8763-69267C8A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C55-E48C-4218-9EAE-2B77C98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BC00-AED0-4CA5-9BDE-4234C7AA5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BCB0-45CF-43FA-BE99-8C95877E6A8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acionalni program za prevenciju kolorektalnog karcino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taša Ranč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ologija skrining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ziv svim osobama starosti 50 do 70 god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zvršioc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ovi zdravlja (izabrani lekar i preventivni cent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/zavodi za javno zdravl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stroenterolog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rurg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keta/upitnik  o eventualnim simptomima, porpdična I lična anamneza i higijensko-dijetetskim navik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-svako dobija tri primerka testa I uputstvo za izvođenje te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pidemiološke karakteristike kolorektalnog karcinoma u Republici Srbij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igni tumori debelog creva su druga najčešća lokalizacija malignog proce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ake godine oboli oko 3 800 a umre oko 2300 muškaraca i ž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k debelog creva je drugi najčeši uzrok umiranja od malignih bolesti, iza raka pluća kod muškaraca i posle raka dojke kod ž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ktori rizika za rak debelog cre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le četrdesete godine povećava se obolevanje i kod muškaraca i kod ž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1% svih otkrivenih slučajeva raka debelog creva otkriveni su kod starijih od 50 god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adekvatna ishrana (bogata zasićenim mastima i proteinima životinjskog poreikla, sa malo dijetalnih vlaka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jaz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šenje cigare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sledna predispozi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ojanje crevnih poli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dostatk fizičke aktiv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lljevi progr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njivanje obolev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njivanje umir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e ranog otkrivanja raka debelog cre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jčešće korišćeni testov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ovi prisustva okultne krvi (golim okom nevidljivo) u stoli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ktosigmoidoskop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lonoskop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na okulto krvarenje u stol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aj test se pokazao kao prikladan u zdravoj populaciji, jer se jednostavno izvodi i ima nisku cenu košt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zitivan test je indikacija za dalje gastroenterološko ispitivanje, odnosno kolonoskopi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oruka za početno testiranje kod osoba starijih od 50 godina sa prosečnim rizikom za rak debelog cre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obe koje imaju negativan nalaz treba upozoriti da to ne znači da nemaju polip ili rak debelog cre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lonoskopski pregled je znatno skuplji, ali je osetljiviji I otkriva I najmanje lezi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enjuje se kod svih kod kojih je test na prisustvo okultne krvi pozitiv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d osba koje su na visom riziku primenjuje se i pre 50. godine živo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5:45:43Z</dcterms:created>
  <dc:creator>AZURE</dc:creator>
  <dc:description/>
  <dc:language>en-US</dc:language>
  <cp:lastModifiedBy>Korisnik</cp:lastModifiedBy>
  <dcterms:modified xsi:type="dcterms:W3CDTF">2018-12-24T08:41:52Z</dcterms:modified>
  <cp:revision>15</cp:revision>
  <dc:subject/>
  <dc:title>Nacionalni program za prevenciju kolorektalnog karcinoma</dc:title>
</cp:coreProperties>
</file>