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938-9514-4F17-B0CD-9B9C389D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3B0-A928-4358-B896-A8617351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14E-367C-496C-B756-CACDD3F9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3AA-A9E3-4E5D-BA0E-29DB1125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B43F9-0A77-4472-8EE8-D9D77609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6B693-440D-4426-A16E-BFA60205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ADD37-3882-4D2D-80F7-8DD0034E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809CE-996B-4538-BAEF-FC20246D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5402E-86CB-45D0-82A7-A39708B3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0AA7E-6D2B-49EE-BDD7-074E18FC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2C5C8-D43F-4269-82AE-6CCBEE88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0C7-4427-4F4B-95DB-3E53AA59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A3663-995E-4706-97B9-032524F4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15CCD-F252-4934-ACA8-238202A4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D6A95-AE73-44B1-8EBD-9C38FA9A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AFE6F-6B7A-45E1-AFD4-F88E3B65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1AC06-32CE-4FDD-98EB-241AEAB7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325-93DC-4067-B050-A0C4294F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435-58A6-48BE-A45A-ED58BAF1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AAB-DFCC-45A0-83D3-FF7D4AE0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E53-CEBC-4C20-BECA-FC0740C7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D67-56CC-42F0-B556-5433069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032-BCF0-42AC-9869-8668CA02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3B5-DC3A-404F-AF48-23164ED0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A740-040E-4E18-A322-62E725245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13A4-EADB-4156-ADAF-4325DD1B2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НАЦИОНАЛНА СТРАТЕГИЈА ПРЕВЕНЦИЈЕ И РАНОГ ОТКРИВАЊА ТИПА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 ДИ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1" lang="sr-CS" sz="4000" spc="-1" strike="noStrike">
                <a:solidFill>
                  <a:srgbClr val="ffffff"/>
                </a:solidFill>
                <a:latin typeface="Tahoma"/>
              </a:rPr>
              <a:t>АБЕТЕС МЕЛИТУ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929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Асс др Зорана Дељан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нститути и заводи за јавно здравље као установе здравствене заштите које  обављају здравствену делатност на више нивоа (чл. 119, 120,121. и 122. Закона) одговорни су за планирање, праћење и спровођење посебних програма здравствене   заштите  дефинисаних  од  стране  Министарства  здравља.  Овај национални програм  један је од приоритетних програма за чије спровођење је неопходно учешће свих наведених нивоа здравстене зашти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. Циљ и задаци Националног програм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Основни циљ Националног програма је успостављање одговарајућег и одрживог  система  раног  откривања  и  превенције  типа  два  дијабетеса  на примарном нивоу здравствене заштите у Републици Србији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Задаци Националног програма јесу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израда Упутства за примену Националног програм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израда предлога програма за едукацију едукатора превенције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едукација едукатора за превенцију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едукација здравствених радника и сарадника у примарној здравственој заштити за спровођење превенције и раног откривања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прилагођавање 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организације 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рада 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превентивних 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центара 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и саветовалишта  за  дијабетес  ради  раног  откривања  и  превенције  типа 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спровођење раног откривања особа са повишеним ризиком за тип два дијабетеса  према  методологији  Националног  водича  за  превенцију  типа 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откривање новодијагностикованих пацијената са типом два дијабетес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и  њихово  укључивање  у  систем  здравствене  заштите  према  методологиј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Националног водича за превенцију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откривање  пацијената  са  високим  ризиком  за  тип  два  дијабетеса  и превентивни поступци у складу са Националним водичем за превенцију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израда стандарда праћења примене превентивних поступака код особа са високим ризиком за тип два дијабетеса у складу са Националним водичем за превенцију типа два дијабетес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процена  кретања  броја  новодијагностикованих  пацијената са  типом два дијабетеса у току прве године примене Националног програм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процена  кретања  броја  пацијената  са  високим  ризиком  за  тип  два дијабетеса у току прве године примене Националног програм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Tahoma"/>
              </a:rPr>
              <a:t>- процена ефикасности примене превентивних поступака код пацијената са  високим  ризиком  за  тип  два  дијабетеса  у  току  прве  године  спровођења Националног програма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прављање и координација активностима Националног прогр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осилац  активности  Националног  програма  је  Републичка  стручна комисија за шећерну болест (у даљем тексту: Комисиј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 сваком превентивном центру на примарном нивоу који учествује у Националном   програму   биће   задужен   по   један   лекар   за   управљање   и координацију активностима у оквиру тог превентивног  цент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Спровођење Националног програма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У оквиру остваривања Националног програма, у сваком превентивном центру биће спроведена следећа методологија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а)  Откривање  ризика  за  тип  два  дијабетеса  спроводиће  се  у  виду организоване ране детекције код особа старости преко 40 година, у сваком дому здравља једном месечно. У току сваке акције биће анализиран узорак од триста испитаника   (број   позваних   хиљаду,   предвиђени   одзив   30%)   коришћењем Упитника  процене  ризика  за  тип  два  дијабетеса  (Схема  1)  из  Националног водича превенције типа два дијабетеса. Истовремено, спроводиће се и анализа Упитником  за  дијабетес  и   кардиоваскуларни  ризик  из  европског  пројекта превенције типа два дијабетеса на нивоу примарне заштите ДЕ ПЛАН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б) Особе са утврђеним скором ризика &gt; 15 (20-30% укупног броја) биће укључене  у  превентивни  програм  који  обухвата  промену  начина  исхране  и повећањефизичке   активности, 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према препорукама 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Националног   водича превенције типа два дијабетес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Tahoma"/>
              </a:rPr>
              <a:t>в)  Особе  са  новооткривеним  типом  два  дијабетеса  биће  укључене  у редован поступак лечења код изабраног лекар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План превентивне интервенције  Националног програм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Превентивна интервенција обухвата медицинску нутритивну терапију у виду  дијете  прилагођене  пацијенту са  утврђеним скором  ризика  &gt;  15, као  и препоруке о физичкој активности на основу антропометријских и метаболичких параметара. Ове препоруке се спроводе индивидуалним и групним саветовањем у  превентивном  центру.  У  првој  фази  до  шест  недеља  пацијент  са  високим ризиком се упућује на први лекарски преглед, мерење телесне тежине и висине, обима струка, артеријског крвног  притиска, мерење гликемије наште (ОГТТ), лабораторијске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анализе,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електрокардиографску 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дијагностику 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и 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cc00"/>
                </a:solidFill>
                <a:latin typeface="Tahoma"/>
              </a:rPr>
              <a:t>добија препоруке   о   начину   исхране   и   нивоу   и   распореду   физичке   активности. Индивидуална или едукација у групи се спроводи једном у  петнаест дан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 другој фази превентивне интервенције после шест недеља (од шест недеља до шест месеци), пацијент са високим ризиком одлази на други лекарски преглед, мерење гликемије наште, лабораторијске анализе и добија препоруке о начину исхране и нивоу и распореду физичке активности. Индивидуална или едукација у групи се спроводи једном у месец д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 трећој фази превентивне интервенције у оквиру од  шест месеци до дванаест месеци, пацијент се упућује на контролни лекарски преглед, мерење телесне  тежине и висине, обима струка, артеријског крвног притиска, мерење гликемиј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нашт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(ОГТТ),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лабораторијске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нализе,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електрокардиографску дијагностику,   израчунава   се   индекс   телесне   масе   и   процена   спровођења индивидуално  прилагођене  физичке  активности  и  дијете,  као  и  процена  за увођењем  медикаментозне терапије. Индивидуална или едукација у групи се спроводи једном у три месе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Пацијент са новооткривеним дијабетесом типа два се упућује на редовне контроле код изабраног доктора медици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Национални програм превенције и ране детекције типа два дијабетеса заснива се на Стратегији превенције и контроле хроничних незаразних болести‚ као и на средњорочним циљевима Министарства здравља у области превенције болести и очувања здрављ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Дијабетес се налази међу пет водећих узрока смрти у већини земаља света. Претпоставља се да ће до 2010. године од ове болести оболети преко 230 милиона љу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ако   се   највише   инциденције   региструју   у   развијеним   земљама, највећи пораст оболелих очекује се у  земљама у развој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роцењује се да данас у Републици Србији са дијагнозом дијабетеса болује  приближно 500.000 особа или 6,7% од укупног броја становника. Број особа са дијабетесом типа два је многоструко већи (95%) у односу на особе са дијабетесом типа јед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Према  подацима  популационог  регистра  за  дијабетес,  у  Републи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рбији у 2006. години евидентирана је 361 новооболела особа узраста до 29 година са дијагнозом дијабетеса тип један. Исте године регистровано је 17.891 новооболелих особа свих узраста од дијабетеса типа д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топа морталитета од дијабетеса мелитуса повећала се са 31,1 у 2001. години,  на 34,3 ( на 100.000 становника) у 2006.  години. У односу на друге европске  земље,   Република  Србија  се  сврстава  међу  земље  са  осредњим ризиком умирања од дијабетеса мелиту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1.1. Значај типа два дијабетеса као хроничне незараз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Бројна  испитивања  су  показала  да  је  тип  два  дијабетеса  у  значајном порасту који добија размере пандемије, посебно у земљама у транзициј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Утврђено  је  да  дијабетес  у  целини,  а  нарочито  тип  два  представља изузетно  значајан  узрок  васкуларних  обољења,  тако  да  је  најчешћи  узрок слепила,   терминалне  бубрежне  инсуфицијенције  која  захтева  дијализу  или трансплантацију  бубрега,  нетрауматске  ампутације  и  периферне  неуропатије, као  и  да  две  трећине  пацијената  који  су  прележали  инфаркт  миокарда  или мождани удар имају тип два дијабетеса или стање високог ризика за ову боле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тудија  оптерећења  болестима  у  Републици  Србији  је  показала  да дијабетес,  мождани  удар  и  инфаркт  миокарда  спадају  у  пет  најзначајнијих обољења   са  становишта  оптерећења  здравственог  система  у  нашој  земљ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Имајући  у  виду  јавно-здравствени  значај  типа  два  дијабетеса,  као  и процену да се у постојећим условима  до сада дијагностиковао на време тек сваки други пацијент са овим обољењем, постоји значајна потреба у Републици Србији за спровођењем активности на раном откривању и превенцији типа два дијабетес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.2. Законска регулати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Систем здравствене заштите и организација здравствене службе уређени су  Законом о здравственој заштити („Службени гласник РС”, број 107/05 – у даљем тексту: Закон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Здравствена заштита у смислу тог закона обухвата спровођење мера за очување   и   унапређење   здравља   грађана,   спречавање,   сузбијање   и   рано откривање  болести,  повреда  и  других  поремећаја  здравља  и  благовремено  и ефикасно лечење и рехабилитацију (члан 2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Законом  о  здравственом  осигурању  прописано  је  да  осигурана  лица којима  се  обезбеђује  здравствена заштита  у пуном износу су и осигураници старости преко  65 година (члан 22. став 3). Правилником о обиму и садржају права  на  здравствену   заштиту  из  обавезног  здравственог  осигурања  и  о партиципацији за 2009. годину прописано је да Републички завод за здравствено осигурање  обезбеђује  право  одраслом  становништву  до  тридесет  пет  година систематски преглед једанпут у пет  година, а одраслом становништву преко тридесет  пет година, систематски преглед једанпут у две године или једном у добном периоду код првог прегледа у случају боле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.3. Организација служби опште медиц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Дом  здравља  је  здравствена  установа  у  којој  се  обавља  здравствена делатност на примарном нивоу и у којој се обезбеђује најмање превентивна здравствена  заштита  за  све  категорије становника,  хитна  медицинска  помоћ, општа  медицина, здравствена заштита жена и деце, патронажна служба као и лабораторијска и друга дијагностика  (чл. 94. и 95. Закон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слови здравствене делатности на примарном нивоу, између осталог, обухватају  и  заштиту  и  унапређење  здравља,  спречавање  и  рано  откривање болести.  Здравствене  установе  на  овом  нивоу,  такође  остварују  сарадњу  са другим  здравственим,  социјалним  и  другим  установама  и  организацијама  за припремање и  извођење програма за очување и унапређење здравља (члан 88. Закон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8:34:33Z</dcterms:created>
  <dc:creator>ZORANA</dc:creator>
  <dc:description/>
  <dc:language>en-US</dc:language>
  <cp:lastModifiedBy>Petra i Zorana</cp:lastModifiedBy>
  <dcterms:modified xsi:type="dcterms:W3CDTF">2011-04-03T21:08:35Z</dcterms:modified>
  <cp:revision>18</cp:revision>
  <dc:subject/>
  <dc:title>NACIONALNA STRATEGIJA PREVENCIJE I RANOG OTKRIVANJA TIPA II DIABETES MELLITUSA</dc:title>
</cp:coreProperties>
</file>