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2A2-BD04-4970-913F-9FA46810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904-323A-4FEE-8723-C3BD32BB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203-60C7-4FF9-89D3-C0EE90A7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9FF-010C-40B4-8C67-02C379C4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21603-C084-44B1-B237-3AED6B6D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85EA4-3716-4172-85BF-CE5DD209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B3586-75D4-47B3-ACBB-2F2444A9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BA609-B717-488E-AD32-0E5B0DF9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D5B2B-F98F-4EC1-BF71-197111C6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6E318-620F-4845-B0EC-684F9809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924A7-327D-4D1A-B137-2C844347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2E3-C8BC-4510-AC66-53ED58C4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9B1AF-9CEE-4405-801F-042E5138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1B405-520E-4E2D-AC8B-5C908AD8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65C1A-DD42-4823-9435-E74909BD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DD5E0-C58A-47F7-9377-34E422A6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EBD1E-405A-4CF6-93E6-75928AB9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BB2-32C1-47B9-9C69-1E60C540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3DC-2ADF-4703-94AF-BC13335F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B92-7A05-40A8-90E8-1F356C80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1CC-6F84-461E-BE95-E8A22699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724-FD48-4DA3-99C9-19A3AC40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21B-D0D6-4217-B31D-DFEC423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922-D8D9-41FE-8E37-D318AD93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0A07-CEB2-4AA8-B9A6-8F5ECEEDD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E871-019A-4713-BFB9-A0565BB92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НАЦИОНАЛНИ ПРОГРАМ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ПРЕВЕНЦИЈЕ, ЛЕЧЕЊА И КОНТРОЛЕ KАРДИОВАСКУЛАРНИХ БОЛЕСТИ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У РЕПУБЛИЦИ СРБИЈИ ДО 2020. ГОДИНЕ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929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Асс др Зорана Дељан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Циљеви, оквир и водећи принципи Прогр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2.1 Циљеви Програ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Главни ци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напређење и јачање система здравствене заштите Републике Србије ради боље превенције и контроле кардиоваскуларних боле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пецифични циљев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превенција фактора риз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правовремено препознавање КВБ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унапређење дијагности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смањење смртности и инвалидитета од КВБ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унапређење квалитета живота оболел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.2. Оквир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ромоција здрављ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информисаност и знањ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законска регулатива и финансирањ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капацитети (људски ресурси, инфраструктура, потрошна средств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одршка заједниц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.3 Водећи принципи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Водећ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инцип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венциј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ојим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е заснивај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ктивности предвиђене Програмом јес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напређење здравља кроз мултисекторски приступ и интерсекторско деловање на детерминанте здрављ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смањење неједнакости у здрављ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развијање одговорности за здрављ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одршка здравом окружењ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евен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1. Ванболничка здравствена заштита кардиоваскуларних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1.1. Едука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Едукација  становништва  подразумева  свеобухватну  и  координисану акцију више чинилаца друштвене бриге за здрављ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одизање  нивоа  информисаности  и  знања  о  превенцији  и  контроли болести срца и крвних суд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МЕРЕ И АКТИВ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развој националног здравственог информационог систе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свајање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законских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решењ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циљу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обезбеђењ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иватности, поверљивости и сигурности информациј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јачање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капацитет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институциј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одговорних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з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провођење истраживања, креирање политика и доношење одлу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 јачање  сарадње  између  истраживачких  и  научних  институција  и доносиоца одлу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спровођење  популационих  истраживања  и  креирање  механизама  за делотворну имплементацију њихових резултата у пракс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 развој  и  одржавање  популационих  регистара  за  кардиоваскуларне боле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1.2. Животна и радна сред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Чиниоци  из  животне  и  радне  средине  за  које  је  научно  доказана повезаност са кардиоваскуларним обољењима су: градска бука, бука на радном месту, загађење ваздуха  суспендованим честицама у ваздуху величине испод 2,5 μм, злостављање на радном месту – mobbing и изгарање у раду – burnout syndrome.  Главни  патофизиолошки  механизам  ове повезаности  је  дистрес,  у којем   долази   до   ремећења   регулаторних   механизама   крвног   притиска   и коронарне циркулациј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3.1.3. Висок крвни притиса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ема  подацима  публикације  „Здравље  становника  Србије”  за  2006. годину,  у   нашој  земљи  46.5%  одраслих  особа  оболело  је  од  артеријске хипертензије  (АХ).  Изложеност  цереброваскуларном  инсулту  код  особа  са хипертензијом је седам пута већа, а инфаркту миокарда три до четири пута; два пута  су  чешће  промене  на  периферним  крвним  судовима,  а  10  пута  чешће јављају се бубрежне компликациј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Општи циљев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смањење броја оболелих за 5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унапређењем дијагностике повећати број новооткривених случајева  са АХ за 10%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смањење компликација артеријске хипертензије за 1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Мере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израда упутства за примену националног програм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израда програма за едукацију едукатора за превенцију АХ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едукација едукатора за превенцију АХ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спровођење програма раног откривања особа са повећаним ризиком и превентивни  поступци  у  складу  са  националним  водичем  за  хипертензију  и њихово укључивање у систем здравствене заштит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процена броја високо ризичних и особа са хипертензијо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израда стандарда праћења примене превентивних мера код особа са високим ризиком за хипертензију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процена ефикасности примене превентивних поступака код пацијената са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високим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ризиком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за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хипертензију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току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прве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године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спровођења националног програм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- едукација здравствених радника и сарадника у примарној здравстевеној заштити  за   правилно  лечење  особа  са  АХ  применом  фармаколошких   и нефармаколошких мер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Актив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- Спровођење мера превенциј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1) смањење телесне тежине и лечење гојаз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2) избалансирана исхрана, ограничење уноса соли на мање од 6 грама и натријума на мање од 2.4 грама дневно, повећање уноса намирница са високим односом калијума и натријума, смањење конзумирања алкохо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3)  увођење  обавезе  произвођачима  намирница  да  на  декларацијама наводе тачан садржај натријума, калијума и њихов одно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4) дозирана и контролисана физичка активнос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5) смањење или престанак пушењ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6) контрола стре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) систематски прегледи деце од три до 18 година сваке друге године са мерењем  крвног  притиска  први  пут  код  деце  са  навршене  три  године  са контролним мерењима при редовним систематским прегледи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истематск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глед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драслог становништв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имарној здравственој  заштити  сваке  друге  године  и  с  тим  у  вези  праћење  мера извршењ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9)  јавне  акције  мерења  крвног  притиска  (базари  здравља,  акције  у домовима здравља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0)  рано  откривање  високоризичних  особа  и  њихово  укључивање  у превентивни програм који обухвата корекцију телесне тежине, промену начина исхране  и  повећање   физичке  активности  према  препорукама  националног водич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1) правилна  дијагностика  и  лечење  хипертензије  према  препорукама националног водич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2) за спровођење Програма биће задужени изабрани лекар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3) у сваком дому здравља за спровођење и координацију Програма биће задужен по један лек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1.4. Пуш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атификацијом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квирн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онвенциј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онтрол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дуван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ветске здравствене организације (СЗО), Република Србија се кроз Стратегију контроле дувана (2005.  година) заједно са 139 земаља света обавезала на свеобухватну континуирану  акцију  с  циљем  контроле  дувана  и  производа  од  дувана.  У Републици Србији пуши 30% жена, 38% мушкараца и 20% младих узраста 15-19 година.  У  том  смислу,  намеће  се  потреба  за  неопходним  и  свеобухватним активностима с циљем смањења потражње за дуванским производи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Кардиоваскуларнe болести (КВБ), болести система крвотока, срца и крвних  судова, представљају  велику, хетерогену  групу обољења. Исхемијска болест  срца  са  своја  четири  клиничка  облика  –  ангином  пекторис,  акутним инфарктом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миокарда,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зненадном срчаном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смрти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схемијском кардиомиопатијом, најчешћа је болест из ове велике групе обољења, а настаје као последица атеросклерозе у коронарним артерија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онтрола дувана и производа од дув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Мере и 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смањење пушења и употребе дуванских производа применом програма за одвикавање од пушењ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смањење учесталости пушења међу жена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онтинуиран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дизањ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државањ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висок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цен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дуванских производа у складу са ценама у земљама из окружењ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обележавање дуванских производа порукама а касније и фотографијама патолошки измењених органа пушач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 постепена  замена  пољопривредних  површина  под  дуваном  другим исплативим култура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мораторијум на отварање нових производних погона за прераду дувана и постепена преоријентација постојеће индустрије дувана на друге произв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1.5. Дислипопротеин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ма  подацима  Института  за  јавно  здравље  Србије  за  2006.годину, хиперлипидемије су имале високу инциденцију (мушкарци 2,7%; жене 4,2%) и високу преваленцију (мушкарци 7,3%; жене 8,6%). Повишен ниво липида у крви се може успешно кориговати и тако битно утицати на оболевање и смртност од КВ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мањити број оболелих са дислипидемијама за 2% на годишњем нивоу. Мер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омогућити да одговарајућа терапија буде доступна како би се умањио њихов утицај на настанак КВБ и цереброваскуларне боле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израда водича за хиперлипопротеинемију.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едукација здравствених професионалаца (лекара, сестара и лаборанат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едукација становништва, посебно деце и омладине, о значају правилне исхране и здравих стилова живо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детекција високо ризичних груп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рано откривање особа са дислипидемија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 обезбеђивање  предуслова  за  рано  откривање  и  дијагностиковање поремећаја  метаболизма  липида,  за  све  нивое  здравствене  заштите  а  према планираном обиму дијагностичких процеду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зрадит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егистар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болел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ајтежим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блицим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генетски условљен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хиперлипорпотеинемија  ради  планирања  средстава  за  њихово лечење,  односно  праћење  очекиваних  поремећаја  крвних  сродника,  до 2015. годи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1.6. Исхрана и гојаз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схрана је један од најважнијих модификујућих фактора који се може повезат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азвојем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хроничн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езаразн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олести,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себно кардиоваскуларних. Факторе ризика препознајемо као елементе неодговарајућег уноса намирница у квалитативном и кванитативном смис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венција  и  смањење  учесталости  гојазности  код  деце,  омладине  и одрасл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Мер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напређење нивоа знања и информисаности становништва о значају правилне исхране и физичке актив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реализација популационих циљева исхране обезбеђивањем нутритивно вредне, здравствено безбедне и оптималне исхране становниш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раћење и процена постигнутих ефеката промоције здравих стилова и унапређења здравственог стања становниш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склађивање са препорукама струке у погледу смањења кухињске соли, шећера и масноћа у индустријски произведеним намирница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напређење  законске  регулативе  у  погледу  здравствене  безбедности хране, квалитета намирница и забрана рекламирања индустријски произведене хране која представља ризик по здрављ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напређење законских прописа у погледу рекламирања такозване „брзе хране” са забраном рекламирања у медији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зрад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свајањ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ационалн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порук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з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схран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вих популационих група (предшколску и школску децу, омладину, радно активно становништво, старе, осетљиве групе и др.) и хармонизација са препорукама ЕЦ (НоЕ), европских пројеката и СЗ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континуирано праћење раста, развоја, ухрањености и навика исхране деце предшколског и школског узрас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израда водича за правилну исхрану становништва Републике Србиј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израда водича за лечење гојазности код дец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едукација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(додипломска,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последипломска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континуирана) здравствених радника и сарадника у погледу правилне исхране и превенције нутритивних фактора ризика за настанак гојазности и КВБ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праћење квалитета исхране за појединце и колективе по јединственој методологији ра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постизање и реализација специфичних циљева исхране за јавно здравље становништва  који су у складу са популационим циљевима исхране из другог Акционог  плана  за  Европу  СЗО  од  2007.  до  2012.  године  и  Стратегије  за превенцију и контролу хроничних незаразних болести („Службени гласник РС”, број 22/09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спровођење националних научноистраживачких пројеката или студија у вези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навика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квалитета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исхране,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ухрањености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здравственог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стања становниш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промоција избора намирница са специјалним знаком за одговарајући квалитет и нутритивну вреднос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развијање и јачање партнерстава за спровођење препорука за правилну исхрану и физичку активност између владиног и невладиног секто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-  увођење  новог  програма  едукације  о  значају  правилне  исхране  и превенције нутритивних фактора ризика и гојазности у школа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1.7. Дијабет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1.8. Физичка актив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ма подацима студије Истраживање здравственог стања становништва Србије,  изостанак физичке активности је један од водећих фактора ризика за настанак хроничних незаразних обољења са преваленцијом од 67,7%. Физичком активношћу  превенира се  скоро 60% болести са смртним исход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омоција и имплементација физичке активности у свакодневни живот становниш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Мер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ромоција и имплементација физичке активности код деце, омладине, одраслих и старих особ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 промоција  и  имплементација  физичке  активности  код  особа  без клиничких знакова КВБ и код особа са установљеним КВ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саглашавање препорука здравствене струке у вези са повећањем фонда часова  физичке културе са планом и програмом редовне наставе за основно и средње образовањ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иницирање увођења у наставу медицинског факултета и Факултета за спорт и физичко васпитање садржаја који обезбеђују стицање знања о физичкој активности код особа са кардиоваскуларним ризиком или обољењи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остваривање сарадње владиног и невладиног сектора у осмишљавању националне  медијске  кампање  „СПОРТ  ЈЕ  ЗА  СВАКОГА”  о  неопходности физичке активности и последицама седентерног начина живо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дстицањ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рганизовањ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адничк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ортско-рекреативних такмичења, као и спортско-рекреативних игара пензион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 институционална   и   ванинституционална   промоција   одговарајућих физичких активности према добним групама и здравственом статус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.2. Рано откривање (скринин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ационални програм за скрининг КВБ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дноси се на скрининг биолошк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актор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изика:гојазност, хипертензију,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шећерн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олест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 дислипопротеинемиј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крининг се спроводи на примарном нивоу здравствене заштите и за његово спровођење одговоран је изабрани лек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крининг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гојазности,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дислипопротеинемиј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болелих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д хипертензије спроводи се у оквиру редовних систематских прегледа за децу и одрасле  а   скрининг  за  дијабетес  тип  2  спроводи  се  према  препорукама Националног водича за дијабете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крининг   младих   спортиста   обавља   се   у   оквиру   редовних лекарских прегледа спорти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елективни скрининг особа првог степена сродства за породице чији су мушки чланови оболели од КВБ  (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55 година за мушкарце,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&gt;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65 година за жене), обављаће се  једном у пет година као и селективни скрининг особа првог степена сродства за породице  чији су чланови оболели од фамилијарне дислипопротеинемиј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хоспитална здравствена заштита кардиоваскуларних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ехоспитална кардиолошка здравствена заштита има значајан утицај на ефикасно збрињавање болесника са акутним коронарним синдромом, а најбољи резултати постижу се у лечењу инфаркта миокарда са СТ елевацијом, уколико је након  постављања  дијагнозе  терапија   дата  унутар  првих  1  до  3  сата,  по принципу „што пре то боље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пшти ци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Ефикасна   организација   службе   за   хитну   медицинску   помоћ,   која подразумева и  адекватну опремљеност и обученост кад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Главни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циљеви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Националног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ограм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евенције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контроле кардиоваскуларних  болести  у  Републици  Србији  до  2020.  године  (у  даљем тексту:  Програм) јесу: значајно смањење оболевања и умирања становника у Републици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рбији од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кардиоваскуларних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болести,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обољшање њиховог квалитета  живота  и  смањење  неједнакости  у  здрављу.  Интегрисана  акција друштва  треба  да  буде  усмерена  на  факторе  ризика  и  социјално-економске детерминанте здравља, али и на јачање здравственог система Републике Србије, како  би  био  у  стању  да  одговори  на  све  веће  оптерећењестановништва кардиоваскуларним болест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Мере и 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едукација  неопходног  кадра  за  рано  препознавање  КВБ  (примарна здравствена заштита и хитна медицинска помоћ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ефикасн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збрињавањ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ацијенат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клад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риторијалном припадношћу (домови здравља и хитна медицинска помоћ пацијенте упућује у одговарајућу општу болницу, здравствени центар..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стандардизација опреме на терену за пружање помоћи болесницима са акутним коронарним синдромо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увођење телекомуникацијског система између теренских екипа службе за хитну медицинску помоћ и болница који се баве збрињавањем болесника са акутним коронарним синдром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4. Имплементација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4.1 Носиоци а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осиоци активности Програма с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Министарство здрављ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Републички завод за здравствено осигурањ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факултети медицинске стру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домови здравља, завод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сновани на примарном нивоу здравствене заштите, опште и специјалне болнице, институти, клинике, клиничко-болнички центри и клинички центр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Институт за јавно здравље Србије са мрежом института и завода за јавно здрављ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стручна  и друга удружењ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Републички завод за статистик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- појединци и заједница у цели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. Праћење и процена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раћење  и  процену  спровођења  Програма,  на  основу  прикупљања, обраде и  анализе прописаних здравствено – статистичких и других података, односно  показатеља  предвиђених  програмом,  као  и  на  основу  непосредног увида за подручја појединих  јединица  локалне самоуправе и управног округа, односн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лијал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Републичког завода за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здравствено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осигурање,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врше надлежни  институти,  односно  заводи  за  јавно  здравље.  Њихове  активности усмерава и води Институт за јавно здравље Србиј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звештаје  о  спровођењу  Програма,  континуирано,  на  шест  месеци припремају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достављају </a:t>
            </a:r>
            <a:r>
              <a:rPr b="1" lang="sr-RS" sz="2400" spc="-1" strike="noStrike">
                <a:solidFill>
                  <a:srgbClr val="ffcc00"/>
                </a:solidFill>
                <a:latin typeface="Tahoma"/>
              </a:rPr>
              <a:t>ИЗЈЗ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рбије носиоци програмских целина: домови здравља, заводи основани на примарном нивоу здравствене  заштите, клинике, односно, болничка одељења на којима се лече КВБ и институти односно  заводи за јавно здравље за територију  за коју су основани. На основу достављених извештаја, Институт за јавно здравље Србије сачињава збирни извештај који доставља Министарству здрављ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евенцијом  и  контролом  болести  срца  и  крвних  судова  могуће  је значајно побољшати здравље. Контрола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ових обољења је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остварива превенцијом на индивидуалном и популационом нивоу, смањењем неједнакости у здрављу, заједничком акцијом здравственог и нездравствених сектора, раним откривањем (скринингом), превентивним интервенцијама и промоцијом протективних фактор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иказ ситуац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 односу на просечну стандардизовану стопу морталитета у Европи од 410,1 на 100.000, Република Србија се са стандардизованом стопом морталитета 504,3 на 100.000 становника 2007. године налазила у групи земаља са високим ризиком умирања од болести срца и крвних суд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 структури морталитета у Републици Србији у 2007. години, болести срца и крвних судова чиниле су више од половине свих смртних исхода (56,0%). Највише становника (36,91%)  наше земље умрло је од других болести срца, приближно свака трећа особа умрла је од болести крвних судова мозга и 22,26% људи умрло је од исхемијске болести ср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оред обољења система за дисање, болести система крвотока на другом су месту у  структури ванболничког морбидитета у Републици Србији то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007. године. Ове болести су   у служби опште медицине биле заступљене 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9.5% и у служби медицине рада са 15,0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ема извештају о хоспитализацијама (појединачни извештаји) у здравственим установама у Републици Србији у 2007. години лечено је укупно 931.368 особ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ема подацима Регистра за акутни коронарни синдром (АКС) Републике  Србије, током 2007. године у нашој земљи регистровано је 21.821 новооболелих и 7.381 смртних исхода од АКС-а. Од акутног инфаркта миокарда у нашој земљи у 2007. годни  оболело  16.805 особа и умрло 7159 људи. Исте године од нестабилне ангине пекторис је у нашој земљи оболело 5016 особа и умрло 222 љу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Оптерећење факторима ризика и кардиоваскуларним болест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ема  подацима  публикације  „Здравље  становника  Србије”  за  2006. годину:  33,6%  одраслог становништва пуши, 46,5% има хипертензију, 40,3% свакодневно или повремено конзумира алкохол, 18,3% је гојазно и 74,3% није довољно  физички  активно.  У  односу  на  претходно  истраживање  из  2000. године, 2006. године међу одраслим становништвом Републике Србије смањена је  учесталост  пушења  за  6,9%,  конзумирања  алкохола  за  7,2%  и  физичке неактивности за 12%. У истом периоду, порасла је преваленција хипертензије за 2% и гојазности за 1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укупном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рангирању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обољења према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годинама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живота коригованим  у  односу  на  неспособност  (DALY)  у  2000.  години,  исхемијска болест срца налазила се на првом месту, а цереброваскуларна обољења (шлог), била  су  на  другом   месту.  Стопе  DALY-ја  за  исхемијску  болест  срца  и цереброваскуларна обољења расту са годинама живота код особа оба по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8:34:33Z</dcterms:created>
  <dc:creator>ZORANA</dc:creator>
  <dc:description/>
  <dc:language>en-US</dc:language>
  <cp:lastModifiedBy>Petra i Zorana</cp:lastModifiedBy>
  <dcterms:modified xsi:type="dcterms:W3CDTF">2011-04-03T21:53:53Z</dcterms:modified>
  <cp:revision>72</cp:revision>
  <dc:subject/>
  <dc:title>NACIONALNA STRATEGIJA PREVENCIJE I RANOG OTKRIVANJA TIPA II DIABETES MELLITUSA</dc:title>
</cp:coreProperties>
</file>